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DF16B-AF0B-4514-93B7-945FA4A08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FF34-0A51-4479-BBD7-58010B64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2F5C3-A2AF-44D2-BEA2-129F648A1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7F459-3851-4498-9DD9-00CB2F758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0FC6E-09CD-4696-B26B-D9A645C1B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2EBA5-26AC-4A68-9F72-B52786BD9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36914-8B7F-4CE7-BB2F-0E21BC131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DBDBA-FEAA-408C-AA13-F8917A7A2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23772-FB15-4E60-B6C2-575ECAEF1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BE7F5-23DB-47A2-9BB0-D7A581E03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137DC-037E-4B67-B12F-E4FA8C402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944E-3253-4CF2-8E8C-0EE897589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1A35C-F548-4867-99D1-F94C0A2F9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66635-59C8-4244-B7CF-030E339B3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702D8-A101-4B6D-BCD4-1E1ADE486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DE520-AF42-4C6D-9B29-7F63686E5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8FF97-9501-4F1C-8291-D910232D1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591B79-3F7F-41C9-8476-FF8D8CAE4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EC8DA-20A7-4C16-85FB-DAD042B79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D2FC0-4868-420D-98DD-375DD197A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ACC15-69CB-4265-9CF5-0FFF0341C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CFEAD-CBC9-45D2-BE79-C14FDBFC4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A0E77-8992-47A5-884D-5A9FFFDE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11019-B7D1-454A-B44B-FA51278EB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734E1-DA26-49E2-9840-00AA3FDD6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8ADEA-5C64-4A88-BC3B-22FA76678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9965F-C984-424A-B01F-5405ECB12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52EC4-3794-482D-97A8-859435814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35E747-0118-4C79-8343-AE40BF06F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EB6A1-E20E-4E03-AA81-098EEA8128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182EC-F0F3-47E3-AF01-AE156AB433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7A20E-1389-45B3-ACFC-7C5A67279E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F4B20-D19D-44C6-B833-D064EB7AD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7BD03-1F19-4E38-80AA-1BDE52FFD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3F1CD-104D-4E16-9D4C-423460DFA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0787A-8435-43CF-AEBF-2779769CF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090A3-802F-4DC4-BE1F-7F17C4B74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92198-912F-47CF-92E3-F2738014E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77A87-7820-4712-832E-A104D2CDE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B1F81-E60B-40EE-B5E8-A24972009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3D98A-05E8-4C36-A7A7-8D1E081C8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E7F9BE-3740-43CF-8A0B-CCEBB416D3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2F609F-E0E7-4B57-970B-53ACE6D3F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5375-968F-4471-9806-29BED83D9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EF33-AF32-4055-B727-2A870454E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3104-C423-4AC6-9CD5-02841F24C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BF95-8174-407B-BDBA-6C5FA8BD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702E-6FE6-4D27-BF09-33BD0BE19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63D-2079-4D1B-8D09-4C2ADDFFC9E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BDCB-D598-4467-A1A5-F6611B0455B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F0E8-EA14-408A-AFD6-7B3EC90381E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A248-3D73-4ACD-9852-E56A7E288E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eventive Dentistry</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4000"/>
          </a:bodyPr>
          <a:p>
            <a:pPr marL="256320" indent="-2563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ventive dentistry is the area of dentistry that focuses on those procedures and life practices that help people to prevent the beginning or progression of oral disease. It includes at-home dental care performed by patients, as well as dental care and education by professional dental staff in the office or clinic. Preventive dentistry includes two aspects of dental care, both performed to help patients avoid dental disease or to catch it in its early, more treatable stages. In part, it is the oral hygiene care performed by the patient at home. preventive dentistry also encompasses what is done by the dental staff in their offices to help patients maintain healthy teeth and gums. In either case, the objective is to stop the development of oral disease or to find it at an early stage. Dental health professionals most often look for early signs ...........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lcul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ala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locclus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oss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ngivit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ssu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oov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xter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bridemen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PREVENTIVE DENTIST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VENTIVE PROCEDUR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AL HYGIENE AND DENTAL HEALT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SONAL CAR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FESSIONAL CAR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ALTHY DIET IN RELATION TO ORAL HEALT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synonyms of the following terms:</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lu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un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n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oci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cour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fe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ferabl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ive words opposite in meaning to the following words by adding certain prefixe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astic</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sibl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haled</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sibl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olled</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quent</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es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ropriat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orm adjectives from the following nouns:</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er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cu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ub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mbran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lus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scosit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plica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lu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omplete the following sentences:</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88000"/>
          </a:bodyPr>
          <a:p>
            <a:pPr marL="240120" indent="-240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patient felt pain, he..…………………………..........................</a:t>
            </a:r>
            <a:endParaRPr b="0" lang="en-US" sz="2400" spc="-1" strike="noStrike">
              <a:solidFill>
                <a:srgbClr val="000000"/>
              </a:solidFill>
              <a:latin typeface="Constantia"/>
            </a:endParaRPr>
          </a:p>
          <a:p>
            <a:pPr marL="240120" indent="-240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ould consult your dentist for sure if you ..................................................................................................</a:t>
            </a:r>
            <a:endParaRPr b="0" lang="en-US" sz="2400" spc="-1" strike="noStrike">
              <a:solidFill>
                <a:srgbClr val="000000"/>
              </a:solidFill>
              <a:latin typeface="Constantia"/>
            </a:endParaRPr>
          </a:p>
          <a:p>
            <a:pPr marL="240120" indent="-240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procedure will not be easy unless the pharmacy……………………………………………………..</a:t>
            </a:r>
            <a:endParaRPr b="0" lang="en-US" sz="2400" spc="-1" strike="noStrike">
              <a:solidFill>
                <a:srgbClr val="000000"/>
              </a:solidFill>
              <a:latin typeface="Constantia"/>
            </a:endParaRPr>
          </a:p>
          <a:p>
            <a:pPr marL="240120" indent="-240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se drugs were not approved, you………….............…………</a:t>
            </a:r>
            <a:endParaRPr b="0" lang="en-US" sz="2400" spc="-1" strike="noStrike">
              <a:solidFill>
                <a:srgbClr val="000000"/>
              </a:solidFill>
              <a:latin typeface="Constantia"/>
            </a:endParaRPr>
          </a:p>
          <a:p>
            <a:pPr marL="240120" indent="-240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she had taken her pills regularly, she……………………............</a:t>
            </a:r>
            <a:endParaRPr b="0" lang="en-US" sz="2400" spc="-1" strike="noStrike">
              <a:solidFill>
                <a:srgbClr val="000000"/>
              </a:solidFill>
              <a:latin typeface="Constantia"/>
            </a:endParaRPr>
          </a:p>
          <a:p>
            <a:pPr marL="240120" indent="-240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would have got that information here if they…………………………………………………………..............................</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rite an essay:</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a short essay on the health benefits of yoghur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0:28:58Z</dcterms:modified>
  <cp:revision>30</cp:revision>
  <dc:subject/>
  <dc:title>Slide 1</dc:title>
</cp:coreProperties>
</file>